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3B6E-E608-4B0A-8412-DF4CF2ED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4709-D655-4899-A7A2-0D310912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290C-28BF-4322-9669-8D827C84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D572-DA5B-402F-9E46-689D4677E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3038-3D2E-4260-896C-9F46B096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D709-011E-4CB5-BB18-BD454B21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6FA9-8FF7-4DD3-8606-6261D947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4672-BC6F-4CDA-98B8-C416CCD8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F9F2-0DAE-4B1A-9757-2D2E0725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9140-3DBB-4290-9FB6-3890E6B1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2755-B828-487D-A27D-36075E15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FFA0-2EF8-4606-A17D-6E325D71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B94F-C6E3-4509-A90F-8A84C82B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0CA0-EF00-47AC-87E9-44B2FCE2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71A5-92F5-400C-AD19-EBD1B54F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8968-5BBA-47A6-90B3-C2890B2B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D40A-64BB-4BF0-8DA1-089BA142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0F0D-E320-4FFC-B232-DB6AE811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B595-0362-4C8B-8811-EC8AB169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8EA2-41BD-4DE7-BD9A-9DCAAC2D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A468-7CA0-477D-BF00-27A5BD49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1E16-B09C-40EE-B21B-E2FF938B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C6A9-A3AE-4BF9-93C2-03FF4A9C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D305-7E77-44B2-B33A-03C41D19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E574-B738-4BF6-A389-205C997AE1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F6C0-9227-476D-89DE-1F93D2E4CD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ar.by-airforce.com/images/Italy-1943/Invasion_of_italy_1943-R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8080" y="609480"/>
            <a:ext cx="7391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rporal Leander Geunth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228840" cy="3809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038480" y="1828800"/>
            <a:ext cx="4838760" cy="3763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57913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eral Harold Alexa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579132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rporal Leander Geun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3792600" cy="4543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The Allied invasion of Ital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1828800"/>
            <a:ext cx="3809880" cy="4572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3048120" y="609480"/>
            <a:ext cx="2827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ps of Ita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64008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asion of Italy 194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64911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ttle of Italy 1943-19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2862360"/>
            <a:ext cx="4800600" cy="3995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2209680" y="380880"/>
            <a:ext cx="4114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nding on Ita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3241800"/>
            <a:ext cx="4191120" cy="3616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2895480" y="304920"/>
            <a:ext cx="3200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ar in Ita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2:56:39Z</dcterms:created>
  <dc:creator>Information Technology</dc:creator>
  <dc:description/>
  <dc:language>en-US</dc:language>
  <cp:lastModifiedBy>Information Technology</cp:lastModifiedBy>
  <dcterms:modified xsi:type="dcterms:W3CDTF">2010-02-11T13:13:46Z</dcterms:modified>
  <cp:revision>4</cp:revision>
  <dc:subject/>
  <dc:title>Slide 1</dc:title>
</cp:coreProperties>
</file>